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0C4-B649-4001-82F7-1A6960C3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1BA-CBED-4BE7-88A6-A8607E96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E18-5C67-49B3-BDEB-A6EB5B30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BBA-084D-4F8A-9B19-C91BFE30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BBE-9F8F-4FC9-8990-2CD29BA9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641-66BD-44CD-B115-9B6E9FA5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8EC-5D58-4FEF-A251-0F24E784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A46-5E27-4D85-92C3-A0964D0B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E68-1945-4001-861A-0A9BC381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BD6-8D74-4033-8B5A-F9DDD6C8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24E-DB09-4FBD-A85D-F27368E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DF3-A81A-47A7-946F-525842E0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176B-08DA-4DC6-A7AC-AFBCC9BB3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63360"/>
            <a:ext cx="771048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76200" y="1828800"/>
            <a:ext cx="2990880" cy="61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90000" y="18651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2438280"/>
            <a:ext cx="7543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229600" cy="226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8610480" cy="1349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24280" y="3809880"/>
            <a:ext cx="1905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305560" cy="237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8229600" cy="87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91120" y="3809880"/>
            <a:ext cx="2971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6597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5:40:41Z</dcterms:created>
  <dc:creator>Graham</dc:creator>
  <dc:description/>
  <dc:language>en-US</dc:language>
  <cp:lastModifiedBy>Graham</cp:lastModifiedBy>
  <dcterms:modified xsi:type="dcterms:W3CDTF">2012-08-08T12:16:48Z</dcterms:modified>
  <cp:revision>4</cp:revision>
  <dc:subject/>
  <dc:title>Slide 1</dc:title>
</cp:coreProperties>
</file>